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A50-3651-4A1A-BE17-5B80D82B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B3B-FC2A-4364-8DDF-750612B8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33E-F933-4531-862F-524C75FD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B33-9704-46B1-98E3-A5959ACE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E8A5-7484-4B3B-B47F-E861D162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77F2-898A-4E9A-B88E-53FF2968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73D9-D839-482A-8003-11F8C2E3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FC19-E8CE-4F1D-98F2-47E5AD2E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2D2-4F6E-4589-B54F-A6846B0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806C-9C70-4851-A074-F7F15C76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0689-8936-40FB-86EC-70BED277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408-BCFD-442A-A6F4-E61E1888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3552-D1D9-416B-9590-ADDDB09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31FE-CE57-4900-8B52-D17031C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F896-91E3-46C4-AA4D-76C94A25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1075-F9B5-4AF5-9077-DD523A6F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1DC1-7390-441E-B53C-FB42D52A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8534C-4250-4D90-894C-BFB51821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AC0A1-49E8-4BFF-AAEC-C4339AB1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7101F-85A0-4D7A-B634-AE39A063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0D2AE-84C2-47BF-8EAC-9F7EAF54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B58B4-0172-4876-9E04-7474A4AC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934-9832-4C9A-AB83-8C89F6D7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E9E0D-67B4-4870-988D-6389A1D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1226A-AFE8-4E95-A0E0-7760F81F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C0736-7390-4F25-AD7C-9531AD7E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59BED-5CA7-48AD-A597-378041C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B0696-8611-45EB-8CFF-2189ACCE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1D3E9-2A99-4035-B814-5E1179BC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4E4EF-5CA0-4FE2-97DA-DF414030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483D1-E862-431D-8A84-907372AC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B4C64-EE04-4AAB-90F4-1194E9A1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12384-1399-4122-ADC6-CF305D14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35B-4C9A-4923-A1BA-0FED68B3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B4F07-9738-48EC-9AFC-0FEBD3FB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D1DE9-3CE3-4ADA-961D-4E72D41E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89E91-0DAC-43B4-88E8-3B1DF69A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29A62-42D5-4D32-8F45-35B8297E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988F62-D16A-492F-9486-A4AB694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662BE-B520-4DDB-9DEA-94FD074E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80E26-0274-4C75-83D2-412E7B23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CAEF0-F106-47F5-A5CE-19BB911B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ED7D6-1DF5-4E35-AC66-5E67F38E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3EA90-8336-4B52-A350-F6E37FED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9DE-116A-49FE-9E95-68BC9746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E277B-5293-4AB7-A6F1-B139F3C3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C05BC-C866-4D71-9126-2066D50E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D257F-AE3D-4FFD-889A-3D923625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0BE74-19DA-4E00-840E-A3605DFC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5D21A-5FEE-4D20-A98F-393E315E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9AE67-6FA0-4F80-A963-FFA8003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696C5-5F8E-438F-B39A-1B4EFD37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F0402-B217-454F-8831-B23CFAE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242DF-DBA3-4CC6-973D-1C91BA08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3EDFF-8974-4F1F-BC5B-13763887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E5E-FDAB-4903-B856-B55265DF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33FD9-E047-4467-AF7A-55A2C04F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84BF2-9B29-4C29-93C0-227EF203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5E7A-5FFC-464B-9AF7-6F16444E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F7467-5589-4A74-B8F7-D61DFD09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39B27-7F84-4150-A0E0-08425EAF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13D2-3BA5-499C-8C50-F33E8D74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7F72A-7155-4E69-9538-61A601B4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26532-5CD7-46E3-86CF-109B4855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B7329-3D79-4F3F-958E-3F9BB9DE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0B36E-E138-4A67-847A-BFCDA7F2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9DD-D24C-4FD9-8CEA-E9BD3DCF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0FF0D-5F63-4CA0-B87E-4864CFA6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8B6E-CD51-4063-9871-422D88BC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BC3A-5A2F-4AAE-B195-6DD717C7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081EC-ACAB-4FCA-9AAA-1C07A732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FACAE-EDD0-409B-9055-5323CF10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BD728-DE3B-42D1-9427-3C2D3CC0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EBA3E-DBC6-4594-BD44-D4DD6C01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83B09-127A-4D02-B460-8B3810C8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42BA7-C5B7-4A65-A260-F0134062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06608-3E15-4A5C-A86B-0FF2821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153-E52C-46E7-9952-764B4AB1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721DF-7831-4620-B353-9634020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13809-7464-45C6-9B72-B9A675D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63A4D-F3F1-40DE-85A0-2F598479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FC964-C2B9-4D79-BF60-11CB9949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F7781-B576-4472-A8C4-74DF7060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B2D75-F722-4AED-9403-21FEE418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D8FAC-78ED-43A7-9866-4DFFFC77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C31F2-C53A-4CDC-A980-310B2EA8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E0556-FF83-4BDD-AAEE-D08094AA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E74EF-DE48-41CE-864C-6DBC32BA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DA7-DD40-436A-B46B-076722C6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8A4E-9F45-41CF-9F53-1B51EF0D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CE018-9A6F-4AFF-9173-C1B90831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BB2C0-4734-4837-A940-8F9F546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ECF4A-E3C0-4C3F-AC59-8BCB8D6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DD7E1-0DA7-4DAB-BB6D-5A7D7736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4405A-97B5-47B3-9F1E-5DBA0B0F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9EA4F-B812-4079-BCEB-2EC761B3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3A38-D803-4D57-8230-98E5B24C9B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825C-8FC0-42EA-A536-E8FE76FD88AB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77A9-05F2-4997-AC7D-0E0D741AC34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0D3B-70E0-4C1E-BD0F-B843D29BC6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5AEA-18E2-48C4-9503-7871069364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F8C-B018-4ECE-BB9D-0BC756344C7A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54A0-3AEB-45CE-B708-FAE526CAF24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E9AB-8A03-4178-BFF6-FCB72DB3C0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THE COLLEGE ESSA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howing Excellenc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ing Active Vo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The lessons that prepared me for college were taught to me by my mo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My mother taught me lessons that will prepare me for colle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ing Active Voice (cont.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void the passive vo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st for passive vo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” verb + past tense action ver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rrange the sentence to omit the “be” ver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will make your writing more concise and show more a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on’t Thesaurusiz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As a neophyte in music, I attended myriad less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As a young musician, I took many less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your natural langu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few last thoughts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de effective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void ending with “In conclusion…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you can, tie your essay up with the beginning sto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ive your draft to oth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k students, parents, teachers to examine your writ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k for input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vise, revise, rev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writing should be flawle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very sentence should be meticulously plac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960" indent="-205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othing is ever there by chance!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asic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essay tells a story about the applica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essay never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tell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reader direc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stead, you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show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rough concrete experi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tting it u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pture interest within the first two sent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detail and concrete experi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 conc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y attention to transition and sentence vari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active voice verb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’t thesaurusize your ess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de effective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ive your draft to oth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vise, revise, rev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pturing Intere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ample 1: I volunteer as a Big Brother to a little boy. He lost his parents in a car accident a few months ago. From this experience, I hoped to help him cope with his loss and open up his personality by spending time with him after school on certain day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ample 2: While the other children played outside, eleven-year old Danny’s sad eyes focused on the white wall in front of him. He sat alone in silence – a silence that had imprisoned him since his mother and father died in a tragic accident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pturing Interest (cont.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ps to follow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gin in the middle of the sto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ook the reader – a slight twist is not ba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lots of deta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eneral topics to avoid due to overus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vor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ssion Trip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achers / Coach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Use Detail and Concrete Experienc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I developed a new compassion for the disabled. (tel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The next time that Mrs. Cooper asked me to help her across the street, I smiled and immediately took her arm. (experienc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ain, show the reader who you are through examp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e Conc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After Mike left, his loss hit me like a ton of bricks, out of which, when I was finally able to crawl, I had to come to terms with the difficult fact that best friends may come along only once in a lifetime, and it was unlikely I would find such a close friendship again since lightning doesn’t strike twi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When Mike left, I lost the best friend I ever had, and I lost him forev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e Concise (cont.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int out any clichés within either pass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’t be wordy. When you start to string together a lot of little words (such as prepositional phrases), the writing becomes weak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itions and Sentence Var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I started playing piano when I was eight years old. I worked hard to learn difficult pieces. I began to love musi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I started playing the piano at the age of eight. As I learned to play more difficult pieces, my appreciation for music deepen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int out any flaws in either pass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0:38:31Z</dcterms:created>
  <dc:creator>Administrator</dc:creator>
  <dc:description/>
  <dc:language>en-US</dc:language>
  <cp:lastModifiedBy>Administrator</cp:lastModifiedBy>
  <dcterms:modified xsi:type="dcterms:W3CDTF">2011-08-29T01:01:58Z</dcterms:modified>
  <cp:revision>5</cp:revision>
  <dc:subject/>
  <dc:title>The College ESSAY</dc:title>
</cp:coreProperties>
</file>